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RUMBL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BDF0-ABE7-42A7-A34C-3F1051BECD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D1D1-F3F3-4861-94D5-A4091E994D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F67F-05F1-48FE-9F6A-5BE2832987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A725-7951-44EA-AA95-4AD39AD79E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30E-BBBD-443C-868A-AA0EF282701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8BD4-6B17-4291-A659-911F696DE5B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AEAF-D527-4753-A31B-3C548EE419E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C04-8BCF-498C-9CF1-E6761B8ABD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1D4-BBF6-42A8-B2D8-F7AE18045A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2458-273B-48C5-B069-45F0D6B5E87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6D6D-9BE8-427A-A96B-DBDF6F9CE7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D592-A739-4F1F-A889-36FE656D07F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1894-2988-4F42-A983-81145F5E32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C87-4B67-47E2-A454-999CD5177E4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E62A-3635-4FF7-9C0C-9F0F7803332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5F43-F98E-4C9C-A869-4A99DFA6F9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FA81-C940-40D8-A20F-6DB2CCE1AD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359C-95A8-40EF-943B-B961A281F0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07DD-E1A4-43DB-8156-07D8E8621D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76C9-20BA-4644-8E91-B0584CC7CC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34A-DDA5-484D-9BB8-98C52A9A453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5C98-8849-4A61-A192-26316C536B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4A85-2AED-4642-8C8A-1F32F95E49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354C-2058-47EA-9E9A-E2A8C1A1C8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24F5-8ED5-40DA-A2B7-B839BB1BEA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E120-EF2F-4726-BC23-764CE78E16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31B2-8E24-4869-80BE-3E16B9C9BB7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F610-00D6-42B8-8243-B18492A4E0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C7DD-22A2-42EB-BFCF-F220FA70D5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25A9-8528-46E0-8BFA-60F869BAE53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1B80-F438-4E31-B5B4-4E54E4D491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383F-47C9-4542-906E-7E037EDC7F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FD3C-D407-4238-B208-4BDDD70615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39D5-C70C-4B23-9036-3873BD30E1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BAB6-6F7E-4951-9369-9D2E59FDF85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25A6-8DC1-4AEC-96D8-34818AE781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8154-1BEB-45AA-A47F-852584A3C4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E87-10FC-4FE6-9C3F-B37A1B37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25C-396E-406E-92D7-BE533459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042-A19C-4A89-BA01-1F3CFF77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FFD-8DB4-459B-AC88-F91CDF93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BFE-1727-4EB3-BF2B-407A0A8B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9F0-4E4A-4975-A9D0-5B364B08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4A6-6698-467A-98FF-D713AC4C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FCC-9528-4972-BA99-3A87A7FC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710-616F-4696-9B22-E6E99C75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BC0-CA65-4DD0-8CCF-2018FCE4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CEA-280E-4708-B954-8F95F56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0AC-F460-4E50-BD12-4143D13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7722-77D1-4378-9360-D7295F404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52280" y="6039000"/>
            <a:ext cx="8834400" cy="523800"/>
          </a:xfrm>
          <a:prstGeom prst="rect">
            <a:avLst/>
          </a:prstGeom>
          <a:gradFill rotWithShape="0">
            <a:gsLst>
              <a:gs pos="0">
                <a:srgbClr val="e5e5e5"/>
              </a:gs>
              <a:gs pos="50000">
                <a:srgbClr val="ffffff"/>
              </a:gs>
              <a:gs pos="100000">
                <a:srgbClr val="e5e5e5"/>
              </a:gs>
            </a:gsLst>
            <a:lin ang="2700000"/>
          </a:gradFill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" name="Group 12"/>
          <p:cNvGrpSpPr/>
          <p:nvPr/>
        </p:nvGrpSpPr>
        <p:grpSpPr>
          <a:xfrm>
            <a:off x="152280" y="6033960"/>
            <a:ext cx="8840880" cy="532080"/>
            <a:chOff x="152280" y="6033960"/>
            <a:chExt cx="8840880" cy="532080"/>
          </a:xfrm>
        </p:grpSpPr>
        <p:sp>
          <p:nvSpPr>
            <p:cNvPr id="5" name="Freeform 6"/>
            <p:cNvSpPr/>
            <p:nvPr/>
          </p:nvSpPr>
          <p:spPr>
            <a:xfrm>
              <a:off x="152280" y="603396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52280" y="621504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152280" y="639612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152280" y="604512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152280" y="622620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52280" y="6407280"/>
              <a:ext cx="8840880" cy="158760"/>
            </a:xfrm>
            <a:prstGeom prst="pie">
              <a:avLst/>
            </a:pr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RUMBL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52280" y="762120"/>
            <a:ext cx="85345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523880" y="1400040"/>
          <a:ext cx="60991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00040"/>
                    <a:ext cx="6099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Working backward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rom percent composition, you can determine the empirical formul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Empirical Formula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the lowest ratio of atoms in a molecu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d on mole rati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ample is 59.53% C, 5.38%H, 10.68%N, and 24.40%O what is its empirical formul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264280" y="4692600"/>
            <a:ext cx="2501640" cy="113040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4192560" y="5095800"/>
            <a:ext cx="1112760" cy="238320"/>
            <a:chOff x="4192560" y="5095800"/>
            <a:chExt cx="1112760" cy="238320"/>
          </a:xfrm>
        </p:grpSpPr>
        <p:sp>
          <p:nvSpPr>
            <p:cNvPr id="79" name="Line 3"/>
            <p:cNvSpPr/>
            <p:nvPr/>
          </p:nvSpPr>
          <p:spPr>
            <a:xfrm flipH="1">
              <a:off x="4192560" y="5095800"/>
              <a:ext cx="9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4205160" y="5106960"/>
              <a:ext cx="1100160" cy="2271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81" name="AutoShape 6"/>
          <p:cNvSpPr/>
          <p:nvPr/>
        </p:nvSpPr>
        <p:spPr>
          <a:xfrm>
            <a:off x="6102360" y="1149480"/>
            <a:ext cx="1968480" cy="1358640"/>
          </a:xfrm>
          <a:prstGeom prst="hexagon">
            <a:avLst>
              <a:gd name="adj" fmla="val 36201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2597040" y="1454040"/>
            <a:ext cx="2197080" cy="749520"/>
          </a:xfrm>
          <a:prstGeom prst="roundRect">
            <a:avLst>
              <a:gd name="adj" fmla="val 3826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3" name="Group 10"/>
          <p:cNvGrpSpPr/>
          <p:nvPr/>
        </p:nvGrpSpPr>
        <p:grpSpPr>
          <a:xfrm>
            <a:off x="1972800" y="1724040"/>
            <a:ext cx="722880" cy="219240"/>
            <a:chOff x="1972800" y="1724040"/>
            <a:chExt cx="722880" cy="219240"/>
          </a:xfrm>
        </p:grpSpPr>
        <p:sp>
          <p:nvSpPr>
            <p:cNvPr id="84" name="Line 8"/>
            <p:cNvSpPr/>
            <p:nvPr/>
          </p:nvSpPr>
          <p:spPr>
            <a:xfrm flipH="1">
              <a:off x="1972800" y="1724040"/>
              <a:ext cx="60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1981080" y="1733400"/>
              <a:ext cx="714600" cy="2098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86" name="Line 11"/>
          <p:cNvSpPr/>
          <p:nvPr/>
        </p:nvSpPr>
        <p:spPr>
          <a:xfrm flipH="1">
            <a:off x="4782960" y="1733400"/>
            <a:ext cx="1416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791240" y="1743120"/>
            <a:ext cx="1380960" cy="2095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802040" y="1952640"/>
            <a:ext cx="137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1450800" y="496800"/>
            <a:ext cx="2494440" cy="1411200"/>
            <a:chOff x="1450800" y="496800"/>
            <a:chExt cx="2494440" cy="1411200"/>
          </a:xfrm>
        </p:grpSpPr>
        <p:sp>
          <p:nvSpPr>
            <p:cNvPr id="90" name="Rectangle 14"/>
            <p:cNvSpPr/>
            <p:nvPr/>
          </p:nvSpPr>
          <p:spPr>
            <a:xfrm>
              <a:off x="2050200" y="496800"/>
              <a:ext cx="1895040" cy="785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Pure O</a:t>
              </a:r>
              <a:r>
                <a:rPr b="0" lang="en-US" sz="4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n</a:t>
              </a:r>
              <a:endParaRPr b="0" lang="en-US" sz="32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1" name="Arc 15"/>
            <p:cNvSpPr/>
            <p:nvPr/>
          </p:nvSpPr>
          <p:spPr>
            <a:xfrm>
              <a:off x="1450800" y="841320"/>
              <a:ext cx="533520" cy="1066680"/>
            </a:xfrm>
            <a:prstGeom prst="pie">
              <a:avLst/>
            </a:prstGeom>
            <a:noFill/>
            <a:ln cap="rnd" w="2556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92" name="Oval 17"/>
          <p:cNvSpPr/>
          <p:nvPr/>
        </p:nvSpPr>
        <p:spPr>
          <a:xfrm>
            <a:off x="6629400" y="205740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Oval 18"/>
          <p:cNvSpPr/>
          <p:nvPr/>
        </p:nvSpPr>
        <p:spPr>
          <a:xfrm>
            <a:off x="6705720" y="144792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Oval 19"/>
          <p:cNvSpPr/>
          <p:nvPr/>
        </p:nvSpPr>
        <p:spPr>
          <a:xfrm>
            <a:off x="7010280" y="182880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Oval 20"/>
          <p:cNvSpPr/>
          <p:nvPr/>
        </p:nvSpPr>
        <p:spPr>
          <a:xfrm>
            <a:off x="7391520" y="137160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Oval 21"/>
          <p:cNvSpPr/>
          <p:nvPr/>
        </p:nvSpPr>
        <p:spPr>
          <a:xfrm>
            <a:off x="7543800" y="190512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Oval 22"/>
          <p:cNvSpPr/>
          <p:nvPr/>
        </p:nvSpPr>
        <p:spPr>
          <a:xfrm>
            <a:off x="7162920" y="220968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Oval 23"/>
          <p:cNvSpPr/>
          <p:nvPr/>
        </p:nvSpPr>
        <p:spPr>
          <a:xfrm>
            <a:off x="6324480" y="160020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Oval 24"/>
          <p:cNvSpPr/>
          <p:nvPr/>
        </p:nvSpPr>
        <p:spPr>
          <a:xfrm>
            <a:off x="7010280" y="1295280"/>
            <a:ext cx="228600" cy="22860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4821120" y="1733400"/>
            <a:ext cx="137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543800" y="2362320"/>
            <a:ext cx="152280" cy="232704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7696080" y="2363760"/>
            <a:ext cx="0" cy="236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7543800" y="2522520"/>
            <a:ext cx="0" cy="218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5311800" y="649440"/>
            <a:ext cx="2874960" cy="59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30"/>
          <p:cNvSpPr/>
          <p:nvPr/>
        </p:nvSpPr>
        <p:spPr>
          <a:xfrm>
            <a:off x="5325480" y="701640"/>
            <a:ext cx="2847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bsorb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4321080" y="3849840"/>
            <a:ext cx="2897280" cy="59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4334760" y="3902040"/>
            <a:ext cx="2870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is absorb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816120" y="2340000"/>
            <a:ext cx="3457440" cy="215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914400" y="2392200"/>
            <a:ext cx="3260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ple is burned completely to form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Line 35"/>
          <p:cNvSpPr/>
          <p:nvPr/>
        </p:nvSpPr>
        <p:spPr>
          <a:xfrm flipH="1" flipV="1">
            <a:off x="1962000" y="1952280"/>
            <a:ext cx="6508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AutoShape 36"/>
          <p:cNvSpPr/>
          <p:nvPr/>
        </p:nvSpPr>
        <p:spPr>
          <a:xfrm>
            <a:off x="6864480" y="541656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AutoShape 37"/>
          <p:cNvSpPr/>
          <p:nvPr/>
        </p:nvSpPr>
        <p:spPr>
          <a:xfrm>
            <a:off x="7093080" y="473076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AutoShape 38"/>
          <p:cNvSpPr/>
          <p:nvPr/>
        </p:nvSpPr>
        <p:spPr>
          <a:xfrm>
            <a:off x="7397640" y="5492880"/>
            <a:ext cx="292320" cy="291960"/>
          </a:xfrm>
          <a:custGeom>
            <a:avLst/>
            <a:gdLst>
              <a:gd name="textAreaLeft" fmla="*/ 66600 w 292320"/>
              <a:gd name="textAreaRight" fmla="*/ 225720 w 29232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AutoShape 39"/>
          <p:cNvSpPr/>
          <p:nvPr/>
        </p:nvSpPr>
        <p:spPr>
          <a:xfrm>
            <a:off x="6407280" y="473076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AutoShape 40"/>
          <p:cNvSpPr/>
          <p:nvPr/>
        </p:nvSpPr>
        <p:spPr>
          <a:xfrm>
            <a:off x="6788160" y="503568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AutoShape 41"/>
          <p:cNvSpPr/>
          <p:nvPr/>
        </p:nvSpPr>
        <p:spPr>
          <a:xfrm>
            <a:off x="6254640" y="5416560"/>
            <a:ext cx="292320" cy="291960"/>
          </a:xfrm>
          <a:custGeom>
            <a:avLst/>
            <a:gdLst>
              <a:gd name="textAreaLeft" fmla="*/ 66600 w 292320"/>
              <a:gd name="textAreaRight" fmla="*/ 225720 w 29232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AutoShape 42"/>
          <p:cNvSpPr/>
          <p:nvPr/>
        </p:nvSpPr>
        <p:spPr>
          <a:xfrm>
            <a:off x="5950080" y="4883040"/>
            <a:ext cx="291960" cy="29232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AutoShape 43"/>
          <p:cNvSpPr/>
          <p:nvPr/>
        </p:nvSpPr>
        <p:spPr>
          <a:xfrm>
            <a:off x="5568840" y="4883040"/>
            <a:ext cx="292320" cy="292320"/>
          </a:xfrm>
          <a:custGeom>
            <a:avLst/>
            <a:gdLst>
              <a:gd name="textAreaLeft" fmla="*/ 66600 w 292320"/>
              <a:gd name="textAreaRight" fmla="*/ 225720 w 29232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AutoShape 44"/>
          <p:cNvSpPr/>
          <p:nvPr/>
        </p:nvSpPr>
        <p:spPr>
          <a:xfrm>
            <a:off x="5645160" y="5416560"/>
            <a:ext cx="291960" cy="291960"/>
          </a:xfrm>
          <a:custGeom>
            <a:avLst/>
            <a:gdLst>
              <a:gd name="textAreaLeft" fmla="*/ 66600 w 291960"/>
              <a:gd name="textAreaRight" fmla="*/ 225360 w 291960"/>
              <a:gd name="textAreaTop" fmla="*/ 66600 h 291960"/>
              <a:gd name="textAreaBottom" fmla="*/ 22536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Line 45"/>
          <p:cNvSpPr/>
          <p:nvPr/>
        </p:nvSpPr>
        <p:spPr>
          <a:xfrm flipH="1">
            <a:off x="4268520" y="5105520"/>
            <a:ext cx="9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Line 46"/>
          <p:cNvSpPr/>
          <p:nvPr/>
        </p:nvSpPr>
        <p:spPr>
          <a:xfrm flipH="1">
            <a:off x="4192200" y="5334120"/>
            <a:ext cx="1065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AutoShape 47"/>
          <p:cNvSpPr/>
          <p:nvPr/>
        </p:nvSpPr>
        <p:spPr>
          <a:xfrm>
            <a:off x="2901960" y="2063880"/>
            <a:ext cx="21600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AutoShape 48"/>
          <p:cNvSpPr/>
          <p:nvPr/>
        </p:nvSpPr>
        <p:spPr>
          <a:xfrm>
            <a:off x="3435480" y="2063880"/>
            <a:ext cx="21564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AutoShape 49"/>
          <p:cNvSpPr/>
          <p:nvPr/>
        </p:nvSpPr>
        <p:spPr>
          <a:xfrm>
            <a:off x="3816360" y="1987560"/>
            <a:ext cx="21600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AutoShape 50"/>
          <p:cNvSpPr/>
          <p:nvPr/>
        </p:nvSpPr>
        <p:spPr>
          <a:xfrm>
            <a:off x="3206880" y="1835280"/>
            <a:ext cx="21564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AutoShape 51"/>
          <p:cNvSpPr/>
          <p:nvPr/>
        </p:nvSpPr>
        <p:spPr>
          <a:xfrm>
            <a:off x="4349880" y="2063880"/>
            <a:ext cx="21564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AutoShape 52"/>
          <p:cNvSpPr/>
          <p:nvPr/>
        </p:nvSpPr>
        <p:spPr>
          <a:xfrm>
            <a:off x="4197240" y="1911240"/>
            <a:ext cx="216000" cy="6372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AutoShape 53"/>
          <p:cNvSpPr/>
          <p:nvPr/>
        </p:nvSpPr>
        <p:spPr>
          <a:xfrm>
            <a:off x="2825640" y="1758960"/>
            <a:ext cx="216000" cy="6336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AutoShape 54"/>
          <p:cNvSpPr/>
          <p:nvPr/>
        </p:nvSpPr>
        <p:spPr>
          <a:xfrm>
            <a:off x="3968640" y="1682640"/>
            <a:ext cx="216000" cy="63720"/>
          </a:xfrm>
          <a:prstGeom prst="pie">
            <a:avLst/>
          </a:prstGeom>
          <a:solidFill>
            <a:srgbClr val="00dfca"/>
          </a:soli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0.2000 gram sample of a compound (vitamin C) composed of only C, H, and O is burned completely with excess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. 0.2998 g of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nd 0.0819 g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are produced. What is the empirical formula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mpirical To Molecular Formula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71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mpirical is lowest rati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lecular is actual molecu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eed Molar m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atio of empirical to molar mass will tell you the molecular formul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ust be a whole number because..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compound is made of only sulfur and nitrogen. It is 69.6% S by mass. Its molar mass is 184 g/mol. What is its formula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hemical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re sentenc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Describ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hat happens in a chemical reac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quations should be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balanc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ve the same number of each kind of atoms on both sides because ..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Balancing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523880" y="1447920"/>
            <a:ext cx="65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114640" y="2179800"/>
            <a:ext cx="177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934880" y="2179800"/>
            <a:ext cx="16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174560" y="292572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56472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86036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175280" y="47545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5647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86036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175280" y="38401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56472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48603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3880" y="1447920"/>
            <a:ext cx="65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114640" y="2179800"/>
            <a:ext cx="177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934880" y="2179800"/>
            <a:ext cx="16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174560" y="292572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56472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6036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175280" y="47545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5647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86036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175280" y="38401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356472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48603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5461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4649760" y="3811680"/>
            <a:ext cx="836640" cy="6840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523880" y="1447920"/>
            <a:ext cx="65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114640" y="2179800"/>
            <a:ext cx="177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934880" y="2179800"/>
            <a:ext cx="16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174560" y="292572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72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86036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175280" y="47545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5647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486036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175280" y="38401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356472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48603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55461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4649760" y="3811680"/>
            <a:ext cx="836640" cy="6840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4649760" y="4649760"/>
            <a:ext cx="836640" cy="68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5622120" y="467820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lancing equatio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523880" y="1447920"/>
            <a:ext cx="65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2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 2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114640" y="2179800"/>
            <a:ext cx="177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934880" y="2179800"/>
            <a:ext cx="161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174560" y="292572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56472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860360" y="29257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175280" y="47545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5647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86036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4175280" y="384012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356472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48603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546160" y="38401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Line 16"/>
          <p:cNvSpPr/>
          <p:nvPr/>
        </p:nvSpPr>
        <p:spPr>
          <a:xfrm>
            <a:off x="4649760" y="3811680"/>
            <a:ext cx="836640" cy="6840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4649760" y="4649760"/>
            <a:ext cx="836640" cy="68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5622120" y="467820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3430440" y="4802040"/>
            <a:ext cx="836640" cy="68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2878920" y="4754520"/>
            <a:ext cx="439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oms are so small, it is difficult to discuss how much they weigh in gra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 atomic mass uni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 atomic mass unit (amu) is one twelfth the mass of a carbon-12  ato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s gives us a basis for comparis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decimal numbers on the table are atomic masses in am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bbrevi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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product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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 product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32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32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talys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04" name="Group 7"/>
          <p:cNvGrpSpPr/>
          <p:nvPr/>
        </p:nvGrpSpPr>
        <p:grpSpPr>
          <a:xfrm>
            <a:off x="1058760" y="3715920"/>
            <a:ext cx="1684440" cy="370080"/>
            <a:chOff x="1058760" y="3715920"/>
            <a:chExt cx="1684440" cy="370080"/>
          </a:xfrm>
        </p:grpSpPr>
        <p:sp>
          <p:nvSpPr>
            <p:cNvPr id="205" name="Line 4"/>
            <p:cNvSpPr/>
            <p:nvPr/>
          </p:nvSpPr>
          <p:spPr>
            <a:xfrm>
              <a:off x="1058760" y="3905280"/>
              <a:ext cx="1684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V="1">
              <a:off x="2535120" y="3897000"/>
              <a:ext cx="189000" cy="189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 flipH="1" flipV="1">
              <a:off x="2534760" y="3715920"/>
              <a:ext cx="189000" cy="189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08" name="Group 11"/>
          <p:cNvGrpSpPr/>
          <p:nvPr/>
        </p:nvGrpSpPr>
        <p:grpSpPr>
          <a:xfrm>
            <a:off x="1011240" y="4597560"/>
            <a:ext cx="1684440" cy="369360"/>
            <a:chOff x="1011240" y="4597560"/>
            <a:chExt cx="1684440" cy="369360"/>
          </a:xfrm>
        </p:grpSpPr>
        <p:sp>
          <p:nvSpPr>
            <p:cNvPr id="209" name="Line 8"/>
            <p:cNvSpPr/>
            <p:nvPr/>
          </p:nvSpPr>
          <p:spPr>
            <a:xfrm>
              <a:off x="1011240" y="4786200"/>
              <a:ext cx="1684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 flipV="1">
              <a:off x="2487600" y="4778280"/>
              <a:ext cx="189000" cy="188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 flipH="1" flipV="1">
              <a:off x="2487240" y="4597560"/>
              <a:ext cx="189000" cy="188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1025640" y="5420880"/>
            <a:ext cx="1684080" cy="370080"/>
            <a:chOff x="1025640" y="5420880"/>
            <a:chExt cx="1684080" cy="370080"/>
          </a:xfrm>
        </p:grpSpPr>
        <p:sp>
          <p:nvSpPr>
            <p:cNvPr id="213" name="Line 12"/>
            <p:cNvSpPr/>
            <p:nvPr/>
          </p:nvSpPr>
          <p:spPr>
            <a:xfrm>
              <a:off x="1025640" y="5610240"/>
              <a:ext cx="168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 flipV="1">
              <a:off x="2502000" y="5601960"/>
              <a:ext cx="188640" cy="189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 flipH="1" flipV="1">
              <a:off x="2502000" y="5420880"/>
              <a:ext cx="188640" cy="189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actic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 + C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Cl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lid iron(III) sulfide reacts with gaseous hydrogen chloride to form solid iron(III) chloride and dihydrogen monosulfide ga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Al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e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eaning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balanced equation can be used to describe a reaction in molecules and atom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ot gram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hemical reactions happen molecules at a ti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r dozens of molecules at a ti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r moles of molecules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toichiometry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iven an amount of either starting material or product, determining the other quantiti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e conversion factors fro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lar mass (g - mol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lanced equation (mole - mol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eep trac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ne way of producing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involves the decomposition of potassium chlorate into potassium chloride and oxygen gas. A 25.5 g sample of Potassium chlorate is decomposed. How many moles of 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are produced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any grams of potassium chlorid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any grams of oxyge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piece of aluminum foil 5.11 in x 3.23 in x 0.0381 in is dissolved in excess HCl(aq). How many grams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are produced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any grams of each reactant are needed to produce 15 grams of iron from the following reaction?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Al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e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+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Pt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+ KCl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mass of Pt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n be produced from 65 g of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KCl will be produced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from 65 grams of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Yield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you get from an chemical rea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Limiting Reagen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actant that determines the amount of product formed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ne you run out of firs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the least produ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ook shows you a ratio metho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works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 does mi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Limiting reagen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determine the limiting reagent requires that you do two stoichiometry problem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gure out how much product each reactant mak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one that makes the least is the limiting reag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ey are not whole numbers </a:t>
            </a: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	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ecause they are based on averages of atoms and of isotop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n figure out the average atomic mass from the mass of the isotopes and their relative abund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dd up the percent  as decimals times the  masses of the isotop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mmonia is produced by the following reactio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mass of ammonia can be produced from a mixture of 500. g N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nd 100. g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w much unreacted material remains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2.00 g sample of ammonia is mixed with 4.00 g of oxygen.  Which is the limiting reactant and how much excess reactant remains after the reaction has stopped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4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+ 5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→4 NO(g) + 6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cess Reagen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reactant you don’t run out o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mount of stuff you make is the yiel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theoretical yield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amount you would make if everything went perfe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actual yield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what you make in the lab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ercent Yield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% yield =   Actual       x 100%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Theoretical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% yield =     what you got           x 100%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you could have  go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2744640" y="220968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Line 5"/>
          <p:cNvSpPr/>
          <p:nvPr/>
        </p:nvSpPr>
        <p:spPr>
          <a:xfrm>
            <a:off x="2592360" y="3505320"/>
            <a:ext cx="4646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uminum burns in bromine producing aluminum bromide. In a laboratory 6.0 g of aluminum reacts with excess bromine. 50.3 g of aluminum bromide are produced. What are the three types of yiel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Years of  experience have proven that the percent yield for the following reaction is 74.3%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g + 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Hg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If 10.0 g of Hg and 9.00 g of  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re reacted, how much HgB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will be produced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the reaction did go to completion, how much excess reagent would be left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mercial brass is an alloy of Cu and Zn. It reacts with HCl by the following reaction Zn(s) + 2HCl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Zn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(aq)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g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u does not react. When 0.5065 g of brass is reacted with excess HCl, 0.0985 g of Zn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are eventually isolated.  What is the composition of the brass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are two isotopes of carbon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 with a mass of 12.00000 amu(98.892%), and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 with a mass of 13.00335 amu (1.108%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re are two isotopes of nitrogen , one with an atomic mass of 14.0031 amu and one with a mass of 15.0001 amu. What is the percent abundance of each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e Mo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ole is a numb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very large number, but still, just a numb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.02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of anything is a mo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large doz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number of atoms in exactly 12 grams of carbon-1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e Mo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the numbers on the table the mass of the average ato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verage atomic m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ust atomic m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olar mas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ss of 1 mole of a substa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ften called molecular weigh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determine the molar mass of an element, look on the tab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determine the molar mass of a compound, add up the molar masses of the elements that make it u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Find the molar mass of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g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C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·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ercent Composi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rcent of each element a compound is composed o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nd the mass of each element, divide by the total mass, multiply by a 100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asiest if you use a mole of the compou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nd the percent composition of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C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8000" indent="-2880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·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6T01:05:37Z</dcterms:created>
  <dc:creator>Tom</dc:creator>
  <dc:description/>
  <dc:language>en-US</dc:language>
  <cp:lastModifiedBy>FPS</cp:lastModifiedBy>
  <cp:lastPrinted>1998-09-26T17:52:14Z</cp:lastPrinted>
  <dcterms:modified xsi:type="dcterms:W3CDTF">2009-06-08T18:27:54Z</dcterms:modified>
  <cp:revision>2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>http://mrgreen.tierranet.com</vt:lpwstr>
  </property>
  <property fmtid="{D5CDD505-2E9C-101B-9397-08002B2CF9AE}" pid="9" name="LinkColor">
    <vt:r8>16711782</vt:r8>
  </property>
  <property fmtid="{D5CDD505-2E9C-101B-9397-08002B2CF9AE}" pid="10" name="MailAddress">
    <vt:lpwstr>tvgreen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DATA\Web Pages\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